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A80-7594-448B-9A99-5C284405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C31-F024-40BD-A711-77B361FC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563A-4225-4C0A-A1C5-48E0C8DE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ECAE-1A86-4A89-AB1A-2AF75AB9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DAB-3E91-4A08-9DAE-D2643E3C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6BC-E542-40DF-88AA-8A2FF8F3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B56-F18C-4A2B-89D4-691B6887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F0C-88AA-4FEF-8B67-9FB702FC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3AE-C1B1-4D5E-B479-BC9A3540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4F46-2971-4782-B4D7-81E48783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9F6-6333-47E0-8E44-889E424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0C4-647A-474A-9CCD-9C917AF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0F1-C0CF-4BAD-AAFE-53045B68F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335304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LL Programming Framework in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4191120"/>
            <a:ext cx="3429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ltilingual Depar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nuary 26 &amp; 27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ell-framework.gif"/>
          <p:cNvPicPr/>
          <p:nvPr/>
        </p:nvPicPr>
        <p:blipFill>
          <a:blip r:embed="rId1"/>
          <a:stretch/>
        </p:blipFill>
        <p:spPr>
          <a:xfrm>
            <a:off x="4114800" y="457200"/>
            <a:ext cx="46530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1 &amp; 2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wo classes taught by Licensed ESL Teac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09480" y="1371600"/>
            <a:ext cx="7925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D (i.e., English Language Development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ull-out or push-in focused ELD instruction to bring students quickly up to speed in basic academic and social languag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 min x 5 days a week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 class size = 1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-Teaching for English Through Grade-Level Content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 in at least one “language-rich” content class (science or social studies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s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3 &amp; 4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e co-taught ESL cl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33520" y="2209680"/>
            <a:ext cx="792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-Teaching for English Through Grade-Level Content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-teaching in one “language-rich” content class (science or social studies)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-5, WIDA Level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-taught, co-planned or consulted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85800" y="2209680"/>
            <a:ext cx="79246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aboration for English Through Grade-Level Content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content-area class should be co-taught, co-planned or “planned in consultation with” ELL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e –  it would be extremely rare to hav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content-class with only Level 5 EL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ummarize, for K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57200" y="1379520"/>
            <a:ext cx="792468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1-2 = 2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English Language Development cl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content-area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3-4 = 1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content-area cla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 5 = 1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One co-taught or “planned in consultation”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rvice Levels for ELs in Grades 6-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914400" y="1379520"/>
            <a:ext cx="28954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sed on two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ength of time in US schoo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IDA English Proficienc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31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3886200" y="1523880"/>
            <a:ext cx="4648320" cy="4757040"/>
          </a:xfrm>
          <a:prstGeom prst="rect">
            <a:avLst/>
          </a:prstGeom>
          <a:solidFill>
            <a:srgbClr val="dce6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hy is length of time in US schools an issue?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variety of reasons, stand-alone ESL classes are not an appropriate fit for Long-Term English Learners (LTEL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ing research suggests that access to grade level content with language support in the mainstream classroom will better support their n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s for Grades 6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33520" y="1371600"/>
            <a:ext cx="26668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d on WIDA English Proficiency Levels &amp; Time in US School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ree catego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1,2  &amp;  3 </a:t>
            </a:r>
            <a:br>
              <a:rPr sz="20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(Less than 3 years in US schools)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s 3 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(with 3+ years in US schools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l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992400" y="2209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s. 6-12,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s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1-3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less than 3 years in US Schools =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 cla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318960" y="1523880"/>
            <a:ext cx="8382240" cy="52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nd-Alone ESL/EL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English Language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ligned to grade-level content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ESL teacher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2) Sheltered English Language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dual-licensed ESL/ELA teacher or ESL teacher with Highly Qualified Credent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eltered instruction in at least one other content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eltered class serves only English Learners (EL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398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 teacher implementing sheltered instruction strategies and practices or co-taught by content-area and ESL teac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s. 6-12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s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3 </a:t>
            </a:r>
            <a:r>
              <a:rPr b="1" i="1" lang="en-US" sz="2400" spc="-1" strike="noStrike">
                <a:solidFill>
                  <a:srgbClr val="ff0000"/>
                </a:solidFill>
                <a:latin typeface="Calibri"/>
              </a:rPr>
              <a:t>(if 3+ yrs. in US schools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 Leve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4 =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18960" y="1523880"/>
            <a:ext cx="838224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) Structured Immersion in Co-Taught English Lang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-taught by ESL teacher and ELA teac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d Immersion in at least one Co-Taught or Co-Planned Content Are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-taught by content-area teacher and ESL teacher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-area teacher who consults 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rs. 6-12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IDA Level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5 =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i="1" lang="en-US" sz="4400" spc="-1" strike="noStrike">
                <a:solidFill>
                  <a:srgbClr val="ff0000"/>
                </a:solidFill>
                <a:latin typeface="Calibri"/>
              </a:rPr>
              <a:t>co-plann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18960" y="1523880"/>
            <a:ext cx="838224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1) Structured Immersion in Co-Planned English Lang Arts (E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ELA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ELA teacher who consults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2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ructured Immersion in at least one Co-Planned Content Are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instream class with mix of EL and non-EL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nglish Lang. Dev. in and through grade-level, standards-based content instruction in mainstream class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-area teacher who consults  with ESL teac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(regarding best meth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o summarize, for 6-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57200" y="1219320"/>
            <a:ext cx="8381880" cy="56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1-3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ess than 3 years in US schools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= 3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nd-Alone ESL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heltered ELA taught by dual-licensed or Highly Qualified ESL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t least one Sheltered Content class taught by content teacher implementing sheltered instruction strategies and practices or co-taught by content-area and ESL teacher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s 3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3+ years in US schools) 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vel 4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2 clas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Immersion ELA (co-taught by ESL and ELA teac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Immersion Content class (co-taught by ESL and content teachers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or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aught by content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consults with ESL teach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DA Level 5 = 2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co-plann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Immersion ELA (taught by ELA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consults with ES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7960" indent="-160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Immersion Content class (taught by  taught by content teacher who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consults with ESL teach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7920" y="198360"/>
            <a:ext cx="449604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P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04920" y="914400"/>
            <a:ext cx="8153280" cy="56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Goals &amp;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Where expectations come f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Provide &amp; document services to all 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What service to which stud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Modifications to the “what services” ru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wo main areas where the collaborating/ consulting ESL teachers contrib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buClr>
                <a:srgbClr val="00b05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ools &amp; P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2999"/>
              </a:spcAft>
              <a:buClr>
                <a:srgbClr val="00b05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word about MPS Bilingual Progra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31859c"/>
                </a:solidFill>
                <a:latin typeface="Calibri"/>
              </a:rPr>
              <a:t>Envo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A key message to all content and classroom teachers (that you can help us with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balance-scale.jpg"/>
          <p:cNvPicPr/>
          <p:nvPr/>
        </p:nvPicPr>
        <p:blipFill>
          <a:blip r:embed="rId1"/>
          <a:stretch/>
        </p:blipFill>
        <p:spPr>
          <a:xfrm>
            <a:off x="6649920" y="-6480"/>
            <a:ext cx="2500560" cy="1878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Balanc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pperplate Gothic Bold"/>
              </a:rPr>
              <a:t>Accountability &amp; Flex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04920" y="2057400"/>
            <a:ext cx="85341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 plans may not work for every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uildings with lower numbers of English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or example, may run into scheduling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W-ACCESS results arrive, we’ll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view service plans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elp buildings come up with an EL Support Plan that’s both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actical &amp; optimally effective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5 of 9: 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to the “Level of Services” Expectations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 1: Dual Eligible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44680" y="1981080"/>
            <a:ext cx="792468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gh standard of c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special concern to the OCR and the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s MUST be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ing on student needs, services take the form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rect service,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ultation with Special Ed teac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alibri"/>
              </a:rPr>
              <a:t>All Dual Eligible students must receive services AND these services will must be docume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5 of 9: 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ptions to the “Level of Services” Expectations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xception 2: Bilingual Progra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44680" y="1981080"/>
            <a:ext cx="8218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l students in bilingual progra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st receive services from a licensed ESL teac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bu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various bilingual models may dictate different amounts/forms of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17280"/>
            <a:ext cx="8610840" cy="127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6 of 9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Expectation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areas where ESL teachers contrib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297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8600" y="304920"/>
          <a:ext cx="8763120" cy="6278400"/>
        </p:xfrm>
        <a:graphic>
          <a:graphicData uri="http://schemas.openxmlformats.org/drawingml/2006/table">
            <a:tbl>
              <a:tblPr/>
              <a:tblGrid>
                <a:gridCol w="4497480"/>
                <a:gridCol w="4265640"/>
              </a:tblGrid>
              <a:tr h="7761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wo Goals informed by Two Sets of Princip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GLISH LANGUAGE 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0d8e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INGFUL ACCESS TO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GRADE-LEVEL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63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Language Acqui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at Optimal Challenge Level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pports for comprehens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ommunicative focu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rtunities for challenging activities in all four domains (speaking, listening, reading, wri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portunities to focus on FORM (i.e., grammar, correctness of languag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•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atic attention to expanding vocabulary &amp; grammatical structu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465120" indent="-349200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IDA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 informed by WIDA tools (Performance Definitions, Criteria for PDs, Can-Do Descriptors, MPI’s)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fferentiate instruction based on student language proficienc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5120" indent="-349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vide learners with supported opportunities to expand their proficiency through challenging language tasks (speaking, listening, reading and writing) above their current leve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927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marL="3889440" indent="-3657600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THE SERVICE OF BOTH GOALS:  Ongoing Progress monitoring of English Language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7 of 9: 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Clarification.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we support all this high-power teaching &amp; collabor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33520" y="1828800"/>
            <a:ext cx="79246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666880" y="1795320"/>
            <a:ext cx="5905800" cy="450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51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upport this collaboration and spread of experti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collaborative teams to PD opportun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for release time and co-planning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Lead teacher coordination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 curriculum and support materials to collaborating teach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ESL teachers in content PD opportunities (and content teachers in ESL P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 out the message that you expect the expertise to transfer and spre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-Line Modules to support all the major facets of our Professional Development 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8 of 9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Clarification. 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ew Words on Bilingual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bilingual-framework.gif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489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9 of 9 </a:t>
            </a: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Envoy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Key Message to Help Us With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57200" y="1447920"/>
            <a:ext cx="792468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L is arriving at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w clar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two key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support ELs’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ed for language develop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principles of SLA]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to support Els’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need for grade-level in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priate to their English proficienc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[the WIDA Standards and tools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ybe not tomorrow or next week, but eventually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1 of 9: </a:t>
            </a:r>
            <a:br>
              <a:rPr sz="3200"/>
            </a:br>
            <a:r>
              <a:rPr b="1" lang="en-US" sz="44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 Goals &amp;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533520" y="1676520"/>
            <a:ext cx="8001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oal of today: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clarify what the ESL Framework means for the District and for your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understand what is called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go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o work together on meeting those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Point 9 of 9 </a:t>
            </a: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Envoy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Key Message to Help Us With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0280" y="1523880"/>
            <a:ext cx="7924680" cy="45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ybe not tomorrow or next week, but eventually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key role of the ESL teacher will be to support the staff in designing and delivering instruction to meet these two nee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45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struction to foster English Language Developmen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4521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Instruction appropriate to the amount of language students have available for grade-level content lear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ything you can do to create a building culture of teachers open to efforts like this … will help all of us to provide what our students need.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Or in other word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2 of 9: </a:t>
            </a:r>
            <a:br>
              <a:rPr sz="3200"/>
            </a:b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Clarific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Where do the Framework expectations comes fro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609480" y="2362320"/>
            <a:ext cx="792504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DE Au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tle III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Department of Education Office of Civil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, Academic &amp; Multilingual Department Strategic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rict Comprehensive Improvement Initiatives (Focused Instruction, SO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D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t consultants, Scholarship &amp;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3 of 9: </a:t>
            </a:r>
            <a:br>
              <a:rPr sz="32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Provide and document all services to English Learne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457200" y="2241720"/>
            <a:ext cx="792468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work Basic Commitments No. 5 (p.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ation of services to English Learners conforms with District data standards arising from Strand 4 of Focused Instruction (Analysis) and the emerging Data Protoco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lingual will be working with Mike Lynch and Scott Weber and other data systems people to develop the on-line reporting for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osed On-Line ELL Services Reco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682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ey Point 4 of 9:</a:t>
            </a:r>
            <a:br>
              <a:rPr sz="40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Expectatio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Services for what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57200" y="2286000"/>
            <a:ext cx="79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t depends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leve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ngth of time in U.S. sch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lish Proficiency Level (i.e., WIDA Lev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Word on WIDA Proficiency Lev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8865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rvices for Grades K-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33520" y="1371600"/>
            <a:ext cx="22096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WIDA English Proficiency Level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ee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1 &amp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3 &amp;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92400" y="22096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4:25:07Z</dcterms:created>
  <dc:creator>John J. Wolfe</dc:creator>
  <dc:description/>
  <dc:language>en-US</dc:language>
  <cp:lastModifiedBy>John J. Wolfe</cp:lastModifiedBy>
  <dcterms:modified xsi:type="dcterms:W3CDTF">2012-01-26T18:52:09Z</dcterms:modified>
  <cp:revision>152</cp:revision>
  <dc:subject/>
  <dc:title>Slide 1</dc:title>
</cp:coreProperties>
</file>